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FAD-B64C-484F-87DA-897454C4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6AB-B26B-4610-B0B7-289863FA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9DC-527C-4CFD-9DD0-0A4A0FCF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D47-6173-46A3-BD8C-7C2546AE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246-B53D-4BD9-BDD8-108BF985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C68-4C1E-4690-9B19-243B7DD9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DBA-36F2-4568-9905-0331F9FF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759-57F3-49B4-9119-1D623D2C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F26-B95C-4DB7-BCC0-83BF76C4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FE5-FCAC-4794-8E17-2113C99B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111-246C-4EB9-8875-3B420960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F86-D7CD-4191-885A-2D8A330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9302-63E3-4C34-A98B-F76AD3AA0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web.vic.gov.au/edulibrary/public/teachlearn/student/keycharliteracyp6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98840" y="550800"/>
            <a:ext cx="3944880" cy="540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66680" y="1504800"/>
            <a:ext cx="88106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duweb.vic.gov.au/edulibrary/public/teachlearn/student/keycharliteracyp6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539640" y="907920"/>
            <a:ext cx="82803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ing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oy Writ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Ralf Fletcher Chapters 5 &amp; 6  – Vanishing Act: The Matter of Choice; Violent Wr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riting Essentia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 Regie Routman -  Making Assessment 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et Characters Help Children Read and Wr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Donald Graves A Reading and Writing Workshop on Character and A workshop on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Jigs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Form a group of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Decide which article you would like to r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ove to where the others are who are reading that artic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ime for reading and then tal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19280" indent="-3603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Draw out the key el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19280" indent="-3603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Choose 3 to take back to home grou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ck to Home group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19280" indent="-3603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Share the 3 key ideas from each read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19280" indent="-360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Implications for our Schoo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798480" indent="-341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- One agreed though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ick Wr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 quickwrite is a first draft response to a short piece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writing (usually a poem, one page of prose, or a sh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picture book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Write for 2-3 minutes of a found idea or borrowed l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from a text, responding to something that sparks a reaction in the reader or listener’s mind. Try to keep to the time limit as I’ve found that this is cruci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Make sure you date each entry. These form seed ideas for students to return to with the idea of selecting one to develop into published pieces.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ick Wr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It is so quiet on the shore of this motionless lak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You can see the slow recessional of extinct anima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s they leave through a door at the back of the world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disappearing like the verbs of a dead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last troop of kangaroos hopping out of the picture, the ultimate paddling of ducks and pitying of turtledo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nd, his bell tolling in the distance, the final go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700" spc="-1" strike="noStrike">
                <a:solidFill>
                  <a:srgbClr val="000000"/>
                </a:solidFill>
                <a:latin typeface="Calibri"/>
              </a:rPr>
              <a:t>Billy Colli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For 2 minutes, write as quickly as you can about any experience this poem brings to mind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Borrow any line from this poem and write for 2 minutes, letting the line lead your thin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8:15:44Z</dcterms:created>
  <dc:creator>Pat</dc:creator>
  <dc:description/>
  <dc:language>en-US</dc:language>
  <cp:lastModifiedBy>Pat</cp:lastModifiedBy>
  <dcterms:modified xsi:type="dcterms:W3CDTF">2010-08-16T08:22:35Z</dcterms:modified>
  <cp:revision>1</cp:revision>
  <dc:subject/>
  <dc:title>Slide 1</dc:title>
</cp:coreProperties>
</file>